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D80D8-FA8F-43B8-950F-C0C1F7F22010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153CD-E93D-45C3-8673-D0D44A7D5E3D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5D08F-E8D7-4F5F-B8E8-37B4EA52C6DC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423EF-43D7-497C-BB91-4BAE7910A725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9D4F9-EF11-4B7F-B88F-7B58BEC947C6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0CE909-2C94-4B8F-BAA9-CB441A04A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1C9823-0494-4210-A0D9-744687E3C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693297-00C9-4D87-9175-CCAB7632E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A60D1A-6375-4C2D-96BA-EA414F14D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C620D1-D6FE-44DB-AC7D-1336770BB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A78BF6-2A1E-4128-B283-A91D7789E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9860B1-680F-4A35-AF35-48DC74945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2309F2-3DDE-4A46-A106-3595ECD9E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FA4DF4-2142-4CB8-9278-F0959B457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242A48-76AF-40B4-883D-984083854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63E49E-BFED-4E77-94D3-2C9F5F7CE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8E6162-67FC-4B8B-A1C7-143BCF5FE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5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>
              <a:gd name="textAreaLeft" fmla="*/ 0 w 7958160"/>
              <a:gd name="textAreaRight" fmla="*/ 7958520 w 795816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11280" y="6244920"/>
            <a:ext cx="792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IN69B, Diseño y evaluación de Negocios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"/>
          <p:cNvPicPr/>
          <p:nvPr/>
        </p:nvPicPr>
        <p:blipFill>
          <a:blip r:embed="rId3"/>
          <a:stretch/>
        </p:blipFill>
        <p:spPr>
          <a:xfrm>
            <a:off x="6300720" y="6237360"/>
            <a:ext cx="2262240" cy="498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>
              <a:gd name="textAreaLeft" fmla="*/ 0 w 7772400"/>
              <a:gd name="textAreaRight" fmla="*/ 7772760 w 7772400"/>
              <a:gd name="textAreaTop" fmla="*/ 0 h 109440"/>
              <a:gd name="textAreaBottom" fmla="*/ 109800 h 10944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8" descr=""/>
          <p:cNvPicPr/>
          <p:nvPr/>
        </p:nvPicPr>
        <p:blipFill>
          <a:blip r:embed="rId3"/>
          <a:stretch/>
        </p:blipFill>
        <p:spPr>
          <a:xfrm>
            <a:off x="1979640" y="3573360"/>
            <a:ext cx="4638600" cy="1022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5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119D9-6965-42F7-8723-62337599DDE2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1134720"/>
            <a:ext cx="798984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Fuentes de oportunidades de negocio</a:t>
            </a:r>
            <a:br>
              <a:rPr sz="3600"/>
            </a:b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y factores para evaluarla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3 Marcador de pie de página"/>
          <p:cNvSpPr/>
          <p:nvPr/>
        </p:nvSpPr>
        <p:spPr>
          <a:xfrm>
            <a:off x="611280" y="6245280"/>
            <a:ext cx="792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IN69B, Diseño y evaluación de Negocios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94920" y="549360"/>
            <a:ext cx="8001000" cy="736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Fuentes de ideas de negoci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9640" y="2060640"/>
            <a:ext cx="7772400" cy="389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50720" indent="-450720">
              <a:lnSpc>
                <a:spcPts val="1800"/>
              </a:lnSpc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Quiebres o Necesida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ts val="1800"/>
              </a:lnSpc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Medios de Comunicación (ej. Diarios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ts val="1800"/>
              </a:lnSpc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Entretenimiento (ocio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ts val="1800"/>
              </a:lnSpc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Redes (ej. Compañeros-Socializar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ts val="1800"/>
              </a:lnSpc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Ferias y viaj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ts val="1800"/>
              </a:lnSpc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Fondos de Fomento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ts val="1800"/>
              </a:lnSpc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Cambio de Paradigma (¿Qué no se puede hacer hoy pero si se hiciera cambiaría el mundo?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ts val="1800"/>
              </a:lnSpc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Agregar valor al client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ts val="1800"/>
              </a:lnSpc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Agregar valor a la empresa (+valor, -costo, mejor adm.  activos, mayor valor de la empresa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ts val="1800"/>
              </a:lnSpc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Hacer sudar los activo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ts val="1800"/>
              </a:lnSpc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Segmentos en crecimiento (ej: Grupo D, tercera edad, etc.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ts val="1800"/>
              </a:lnSpc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Arbitraje (dif. Costos mano obra, monedas, etc.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3 Marcador de pie de página"/>
          <p:cNvSpPr/>
          <p:nvPr/>
        </p:nvSpPr>
        <p:spPr>
          <a:xfrm>
            <a:off x="611280" y="6245280"/>
            <a:ext cx="792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IN69B, Diseño y evaluación de Negocios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índices de interés del negocio</a:t>
            </a:r>
            <a:br>
              <a:rPr sz="3200"/>
            </a:b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Dependientes de quien evalúa)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684360" y="1989000"/>
          <a:ext cx="7848360" cy="397080"/>
        </p:xfrm>
        <a:graphic>
          <a:graphicData uri="http://schemas.openxmlformats.org/drawingml/2006/table">
            <a:tbl>
              <a:tblPr/>
              <a:tblGrid>
                <a:gridCol w="2965320"/>
                <a:gridCol w="3154320"/>
                <a:gridCol w="358920"/>
                <a:gridCol w="1369800"/>
              </a:tblGrid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Fact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Val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0" name="Text Box 140"/>
          <p:cNvSpPr/>
          <p:nvPr/>
        </p:nvSpPr>
        <p:spPr>
          <a:xfrm>
            <a:off x="196920" y="2583000"/>
            <a:ext cx="78753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Mérito Innova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Tamaño del negocio (p*q) ho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Potencial de crec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Riesgo tecnológ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Riesgo de cultura/costumbre/paradig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Riesgo comercial (competidores, et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Potencial de internacionaliz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Inversión (monto, dificultad de obtención, etc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Capacidad del equipo emprende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Evaluación (económica, operacional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3 Marcador de pie de página"/>
          <p:cNvSpPr/>
          <p:nvPr/>
        </p:nvSpPr>
        <p:spPr>
          <a:xfrm>
            <a:off x="611280" y="6245280"/>
            <a:ext cx="792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IN69B, Diseño y evaluación de Negocios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ipos y fuentes de Innovació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Text Box 140"/>
          <p:cNvSpPr/>
          <p:nvPr/>
        </p:nvSpPr>
        <p:spPr>
          <a:xfrm>
            <a:off x="357120" y="2000160"/>
            <a:ext cx="81025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Innovación Tecnológ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Innovación en el Producto (bien o servici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Innovación en Modelos de Negoc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Innovación en Procesos de Negoc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Innovación en Procesos Produc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Innovación en Polític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La innovación (los cambios) genera negocios al crear valor para el cliente (stakeholders) y/o para la empres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0T00:32:30Z</dcterms:created>
  <dc:creator>Antonio Holgado</dc:creator>
  <dc:description/>
  <dc:language>en-US</dc:language>
  <cp:lastModifiedBy>dii</cp:lastModifiedBy>
  <dcterms:modified xsi:type="dcterms:W3CDTF">2010-08-20T13:39:08Z</dcterms:modified>
  <cp:revision>9</cp:revision>
  <dc:subject/>
  <dc:title>Fuentes de Oportunidades</dc:title>
</cp:coreProperties>
</file>